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EF1B-BE21-4D1A-9FF8-A48FCB693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F80-4BEF-40D1-8617-481EB59F9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F874-0ACD-4578-9247-E325CE032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7245-8195-4152-B6ED-3DB80CC65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43BA-CFF8-4F79-965B-8BFD1D31F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54B9-D8F8-4D23-9432-931EA31DB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532C-2436-440E-B1F0-5EEA76401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0D6A-EE0E-450E-BF23-35ECC3401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1EAD-054A-442D-9AA5-DE806AC30C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47C7-5DE7-408B-9FA8-D55F6360C9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7B9C-E0E1-4D72-A448-0A739C83D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4A39-E16E-4390-88D5-2B7BCD4EE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2DB9-4E77-46D9-831A-0E5E33AA17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EA97-8E8E-47BD-80BB-2821F9B6CD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E99F-3A6D-4063-AB3B-DE0BF3CD7A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0460-401D-4111-AE0C-F64E0EB150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7ECD-B9E3-4D43-BFC5-D5845CBF3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9262-2F3B-4201-86D7-8B2D19554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7BEF-EA77-4D1B-8110-09B0BDB86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DB2A-B850-46B1-92CB-AD4A7A6EE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4B6C-59CA-4054-B14F-EEB6A9DB7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764B-4B16-4B29-ABC7-D228146F8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79DF-BFE4-403D-9153-4736E4AB5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7731-3BB1-4895-81C0-67D713C63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6D8-56C5-45D5-969E-91926322FE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1FE-CF8D-4367-A0F6-AC331AB3A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AF6E-3226-4EE7-8113-BCA392791B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Responding to Students Over Tim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CD86-EC04-4E8E-ACAE-08BFDD7D94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83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CE52-D97A-4870-AD1B-91DD6F8D48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ye</cp:lastModifiedBy>
  <dcterms:modified xsi:type="dcterms:W3CDTF">2011-07-26T20:29:18Z</dcterms:modified>
  <cp:revision>36</cp:revision>
  <dc:subject/>
  <dc:title>&lt;Title&gt;</dc:title>
</cp:coreProperties>
</file>